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905B-ECD1-498E-9A53-BA69D217C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n idea on the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B62C-30BD-443E-BC3B-83501E5F6ECE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D1C-2C99-4E1A-995B-61B2F830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64E-BB9B-4AF9-BE9C-DB74EBCB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3D744-C905-47EE-AD7B-2965F7AA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EE8E4-521E-48EF-9737-A653D37A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1EF43-E053-4D3E-9B7B-93D625B8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7BD73-A787-4ED0-B102-8BC17BD2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DC0F5-426A-4592-A81A-96E2FEEB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7B4AA-F182-44DD-BF44-D0706D2C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EC5EE-7778-43F7-8C7D-EE6BEC48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641DA-96B0-427C-894E-591E8E51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742E2-7CD9-4A39-90F6-84D90605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BD4AB-F0E3-4AD3-9B94-2CF47F8C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D35-245A-4928-9C37-F2B1EEEE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40083-75DC-43B4-9291-FA3BD583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29695-6B23-4E93-BAD7-865D78E9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09060-84A6-40AB-B619-D791EFBB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C3B4A-DD94-48A6-BFAA-1647D5CB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D86C4-F385-4BD1-A035-7074B23A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B6C48-9956-4BCF-8F6B-45A1F811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7483A-85CF-41F4-A9F4-1C9BEDB0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BB3CB-1FC0-407D-8F3C-FF9A0403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D4D9B-4066-4011-AC10-0B3CDF3C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B31B9-D27A-4A1C-8577-80A2DB16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6BB-3BAF-4ECE-ABF9-DF410A73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AA1CB-FA26-4D2B-80AA-541C34EB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DEE6C-D352-4B90-BBCB-75FF3AAD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55C9B-9C9E-4BC5-821F-2EBD412E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A1781-D645-45B9-B90E-E086BE8D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9999D-751F-4441-9D4B-4C8916B5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523BF-1551-4B5E-A4FA-3E9104FD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C1349-2839-48C9-8190-B299685F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01F5E-B694-45DD-B717-FD5ED89E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34B30-B5EF-4E00-947E-8A429E41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B1C0D-AF4C-4E40-A8AA-EB118CCC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3FF28-6057-4E80-8B6D-DA52CFE6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19814-BD0A-4216-96C7-845C44BC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ED275-B605-4D83-B729-E9215BF4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9F752-7DF6-4E44-AD1A-6D92AC1C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3DF95-C07D-42D4-B824-923FE2F5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5017F-7644-4367-8FAB-58851150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919CC-E747-4E6D-B05B-8154AE12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0A55D-A5BD-4600-BA11-A59C8A26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1A53D-A14B-457D-A6DA-F44C616A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F8208-76A8-48E9-9872-A19BE493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F2843-2E51-4C43-A363-0C869E74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BCE17-494B-4728-820E-969904A6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9DADB-04F2-4FA6-9953-E398FA54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DDB10-BCA1-4CAF-BC92-0532CE0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B13B4-F083-4DC0-9EC6-F35EF0B3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41E21-5BBE-4521-9894-B7E02A04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71DE3-AAF7-4179-B4BC-BEE1B8F8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A4D80-228B-4888-8220-539EA34F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D3366-DE16-41F0-A3B9-D596DBD6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0B174-5CEE-4F57-81AB-6805F4DB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0BD4F-7105-4920-911A-8E469359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B688F-947A-4A85-980E-45E9A945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212-A481-48A9-ABD9-6352AA1A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9C23A-7377-44BE-9303-A0058D5B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5AE29-B5F2-4F2A-A4D0-638967BA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0741D-8155-40AB-8BD5-1137688F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4473D-CE09-47CD-9F68-1FC049FD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E1FF3-CF08-4E12-8594-46774B9D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281D-54CE-412F-8D6B-2FA29B7E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A3253-74F9-4C8F-B9D3-935F9705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C2A73-4BF5-46C3-BE4D-0053E00C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39EF6-BCFC-46E3-91F6-7516AE33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3C6A-A444-4E76-B7DF-9D4C0289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5B3-787C-4653-8EB9-61D923CA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3662-15B0-4805-AD37-DE5FCCF2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D91E-B86A-4627-9CD4-65143B41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73F0-C078-40ED-B7D2-6E57D7B9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06318-6D4B-4813-9058-9DBAAD43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B0DB6-E240-4739-A588-C0645D02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F28E-4BB2-416B-9173-A589679B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0801-0BDD-4999-90BD-A84DD6AE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4F5E8-E67B-4F59-A206-77B3F56E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C57BE-C7E0-493A-8987-2134F6DB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A04A6-140F-4D81-986D-5C7F39B3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7D2-F017-4799-8EBB-2FA24DCB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41195-0966-4859-8EB8-76817E07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F735B-3942-439A-BCB6-54929D16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EABF-D9BF-485E-AE50-F09C2E0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A7F3E-CF25-4202-B995-55C295C5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63BDA-DE00-4F1E-BE71-3CED1787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CC1C1-9E63-4D18-934C-C2A0C3D6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1CF07-BEFF-4B11-8D85-EBEFF6DF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8A5BA-FBFB-4765-97BF-887206BA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49F49-2B41-4AFF-9816-49F66C49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FC583-C0EB-4F7B-80A0-FE0CAF0D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238-0E64-47DD-82D2-D7B5FB8E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EB9B1-D127-4CF3-8CE8-B3164204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BBCAC-BFEE-4D29-BB7F-348CF0DC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0E7B5-2DD5-4A9D-A5BE-0BD25AE2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E86D4-B1E1-4049-9324-3A417677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E7311-C7B9-4D48-941D-DD6A9007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78C02-5D44-4CA7-A4A9-0A90CCA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B79BA-A9DF-4D3C-81C7-08B1F85B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9FD2C-7B9B-4791-A657-3F64CCD2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F87D0-3F47-4D2C-9634-2976D521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D80A9-9321-4A35-87BD-18E9BCC2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140-0A27-462D-924E-C206B268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6CA6C-66B3-4A4F-AF38-EF9FDD15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7621E-AD3D-4B2C-8B86-D5C5AD49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A80EA-E17F-44D1-AD0A-06B5DCF1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59C9A-6FB4-43F5-BC64-6A0C0A1C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C8C45-B9B9-49B6-9135-9543D7B7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8754F-1B25-41BF-BA2E-04BBBD4A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00228-265E-46EA-AB36-C4A3D9F0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38F6A-BBAE-4C9F-90D7-25857DF4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07E84-726D-4ECC-9158-9CEFECF3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9AA69-C252-4DA7-8950-98283DCB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0A2-7574-4AEE-88DB-C5FB3BF8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DB650-CE37-4F75-AFB4-47784A4E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3AD3B-5215-4F15-8DCD-C6AC676A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EC210-DF3E-42F3-801F-3F057EC7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049A1-9BBD-4A5A-A141-72189C19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72325-2FAB-4E87-8F4A-CBD5FF8E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5AD0C-C44C-4AF4-BF61-4163E90C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FE2A9-79E1-4451-8FEE-B74ADFAE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37AF7-7A61-4AA0-83B8-49203633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11474-610A-4DD8-99D5-5627CF22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FC954-8AC8-4A57-B12C-68713BBF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DDB-BC15-43DB-BB2D-F811833F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16533-E1B0-42A6-BBC3-90FD8436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635C4-042C-482A-9B5E-C6A0A84A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83B8-AB7C-4550-B31D-55F2A322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311C0-17B5-4D27-8C33-0EB33E80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50E4E-2DBD-438F-9387-8E928D50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6A53D-67FE-4206-BEF0-405A8F6C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E0DB0-2562-498E-87DD-24ED38AB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6E019-068C-4297-BFB3-344D2F47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7AAE5-D9EE-4946-BD9E-AABEB44A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2ABFD-5527-4047-8792-C5B23998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67A-F477-4161-A6A5-F1F1CD37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FFC72-EA24-4FED-8CD9-215DE805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C502C-4053-4D67-9E50-25D35C47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8A1B8-12FE-4E29-A851-BC5D0B8C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E3435-69C3-4FE8-9490-0BB5781A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2BCC1-6B4D-4BE4-A565-F3854917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ECF77-E639-471F-BCC0-14B21625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88838-5978-4309-B9D4-B1A9EC5E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C1727-103A-4A9F-922E-CAA4A327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5758A-458D-42F4-A918-18EB4A41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F8F52-00CC-4631-B0EA-490E8C8C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28F7-546C-43ED-9827-63D7C8C04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D73-C5D5-442A-89AA-B932034EA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F15A-6CFE-40AD-AA02-5F690BDDA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705360" y="64008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2.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6"/>
          </p:nvPr>
        </p:nvSpPr>
        <p:spPr>
          <a:xfrm>
            <a:off x="-36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832D-4672-4EC9-B767-6F6DCE0AE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0097-B908-4911-B0A9-2CDDD06CB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3844-556C-4FAA-8279-A0DA98336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FC9D-8019-4A18-B2E0-29BEFC4EE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731520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-360" y="63244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3815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78FD-CC1E-48BE-89B8-9E2DBFEA3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D3B3-1136-4957-80B6-7D8A0A214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0" y="6324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5943240" y="632448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2448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4766-ACB9-4ECB-93D0-D54E6166A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ffective Training: Systems, Strategies and Practices,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Ed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Tw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Nick Blanchard and  James W. Thac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2-1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B751B207-D7B9-4C18-9890-689ED65084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Questions to Assess Training Provider Capabilities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– Part 1 of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13" name="Diagram 12" descr=""/>
          <p:cNvPicPr/>
          <p:nvPr/>
        </p:nvPicPr>
        <p:blipFill>
          <a:blip r:embed="rId1"/>
          <a:stretch/>
        </p:blipFill>
        <p:spPr>
          <a:xfrm>
            <a:off x="981000" y="2560680"/>
            <a:ext cx="7534440" cy="468360"/>
          </a:xfrm>
          <a:prstGeom prst="rect">
            <a:avLst/>
          </a:prstGeom>
          <a:ln w="0">
            <a:noFill/>
          </a:ln>
        </p:spPr>
      </p:pic>
      <p:pic>
        <p:nvPicPr>
          <p:cNvPr id="714" name="Diagram 13" descr=""/>
          <p:cNvPicPr/>
          <p:nvPr/>
        </p:nvPicPr>
        <p:blipFill>
          <a:blip r:embed="rId2"/>
          <a:stretch/>
        </p:blipFill>
        <p:spPr>
          <a:xfrm>
            <a:off x="987480" y="3090960"/>
            <a:ext cx="7527960" cy="742680"/>
          </a:xfrm>
          <a:prstGeom prst="rect">
            <a:avLst/>
          </a:prstGeom>
          <a:ln w="0">
            <a:noFill/>
          </a:ln>
        </p:spPr>
      </p:pic>
      <p:pic>
        <p:nvPicPr>
          <p:cNvPr id="715" name="Diagram 11" descr=""/>
          <p:cNvPicPr/>
          <p:nvPr/>
        </p:nvPicPr>
        <p:blipFill>
          <a:blip r:embed="rId3"/>
          <a:stretch/>
        </p:blipFill>
        <p:spPr>
          <a:xfrm>
            <a:off x="987480" y="3943440"/>
            <a:ext cx="7527960" cy="750960"/>
          </a:xfrm>
          <a:prstGeom prst="rect">
            <a:avLst/>
          </a:prstGeom>
          <a:ln w="0">
            <a:noFill/>
          </a:ln>
        </p:spPr>
      </p:pic>
      <p:pic>
        <p:nvPicPr>
          <p:cNvPr id="716" name="Diagram 10" descr=""/>
          <p:cNvPicPr/>
          <p:nvPr/>
        </p:nvPicPr>
        <p:blipFill>
          <a:blip r:embed="rId4"/>
          <a:stretch/>
        </p:blipFill>
        <p:spPr>
          <a:xfrm>
            <a:off x="981000" y="4816440"/>
            <a:ext cx="7572600" cy="92556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7"/>
          <p:cNvSpPr/>
          <p:nvPr/>
        </p:nvSpPr>
        <p:spPr>
          <a:xfrm>
            <a:off x="1066680" y="556092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3AFAA31F-17ED-4AFA-91FB-ED7417CFC1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Questions to Assess Training Provider Capabilities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– Part 2 of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21" name="Diagram 9" descr=""/>
          <p:cNvPicPr/>
          <p:nvPr/>
        </p:nvPicPr>
        <p:blipFill>
          <a:blip r:embed="rId1"/>
          <a:stretch/>
        </p:blipFill>
        <p:spPr>
          <a:xfrm>
            <a:off x="590400" y="2146320"/>
            <a:ext cx="7772400" cy="596880"/>
          </a:xfrm>
          <a:prstGeom prst="rect">
            <a:avLst/>
          </a:prstGeom>
          <a:ln w="0">
            <a:noFill/>
          </a:ln>
        </p:spPr>
      </p:pic>
      <p:pic>
        <p:nvPicPr>
          <p:cNvPr id="722" name="Diagram 11" descr=""/>
          <p:cNvPicPr/>
          <p:nvPr/>
        </p:nvPicPr>
        <p:blipFill>
          <a:blip r:embed="rId2"/>
          <a:stretch/>
        </p:blipFill>
        <p:spPr>
          <a:xfrm>
            <a:off x="1060560" y="2584440"/>
            <a:ext cx="6462720" cy="1158840"/>
          </a:xfrm>
          <a:prstGeom prst="rect">
            <a:avLst/>
          </a:prstGeom>
          <a:ln w="0">
            <a:noFill/>
          </a:ln>
        </p:spPr>
      </p:pic>
      <p:pic>
        <p:nvPicPr>
          <p:cNvPr id="723" name="Diagram 15" descr=""/>
          <p:cNvPicPr/>
          <p:nvPr/>
        </p:nvPicPr>
        <p:blipFill>
          <a:blip r:embed="rId3"/>
          <a:stretch/>
        </p:blipFill>
        <p:spPr>
          <a:xfrm>
            <a:off x="536400" y="5583240"/>
            <a:ext cx="7901280" cy="708120"/>
          </a:xfrm>
          <a:prstGeom prst="rect">
            <a:avLst/>
          </a:prstGeom>
          <a:ln w="0">
            <a:noFill/>
          </a:ln>
        </p:spPr>
      </p:pic>
      <p:pic>
        <p:nvPicPr>
          <p:cNvPr id="724" name="Diagram 14" descr=""/>
          <p:cNvPicPr/>
          <p:nvPr/>
        </p:nvPicPr>
        <p:blipFill>
          <a:blip r:embed="rId4"/>
          <a:stretch/>
        </p:blipFill>
        <p:spPr>
          <a:xfrm>
            <a:off x="549360" y="4621320"/>
            <a:ext cx="7888320" cy="858600"/>
          </a:xfrm>
          <a:prstGeom prst="rect">
            <a:avLst/>
          </a:prstGeom>
          <a:ln w="0">
            <a:noFill/>
          </a:ln>
        </p:spPr>
      </p:pic>
      <p:pic>
        <p:nvPicPr>
          <p:cNvPr id="725" name="Diagram 13" descr=""/>
          <p:cNvPicPr/>
          <p:nvPr/>
        </p:nvPicPr>
        <p:blipFill>
          <a:blip r:embed="rId5"/>
          <a:stretch/>
        </p:blipFill>
        <p:spPr>
          <a:xfrm>
            <a:off x="549360" y="3700440"/>
            <a:ext cx="7888320" cy="86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ooter Placeholder 4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8381880" y="64008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2C4CF82D-0001-43B8-9D65-BFA9E686F1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mall Business Owners Reasons for Not Planning Strategicall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6840" y="2599920"/>
            <a:ext cx="2438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enough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amilia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tru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4724280" y="1905120"/>
            <a:ext cx="3902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Text Box 5"/>
          <p:cNvSpPr/>
          <p:nvPr/>
        </p:nvSpPr>
        <p:spPr>
          <a:xfrm>
            <a:off x="4572000" y="20574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Text Box 6"/>
          <p:cNvSpPr/>
          <p:nvPr/>
        </p:nvSpPr>
        <p:spPr>
          <a:xfrm>
            <a:off x="5927760" y="1760400"/>
            <a:ext cx="2759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Text Box 7"/>
          <p:cNvSpPr/>
          <p:nvPr/>
        </p:nvSpPr>
        <p:spPr>
          <a:xfrm rot="10800000">
            <a:off x="2971440" y="2418120"/>
            <a:ext cx="533412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busy with day-to-day operations and concerns about tomorrow are the excuses for not planning for next year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ck of awareness of strategic planning or failure to see its value. See it as limiting flexibility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 have the skills or time to learn them. Do not wish to spend money to bring in consultants.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ant to keep key information confidential. Do not wish to share this information with other employees or outsider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Text Box 8"/>
          <p:cNvSpPr/>
          <p:nvPr/>
        </p:nvSpPr>
        <p:spPr>
          <a:xfrm>
            <a:off x="5867280" y="2666880"/>
            <a:ext cx="403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5B9FAA0C-0A6D-48C9-8327-372D1EC36B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rategic Questions for Small Busin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914400" y="20574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are we in busines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914400" y="25290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at are the key things we are trying to achieve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914400" y="304812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o is our competition and how can we beat them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914400" y="350028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ort of ground rules should we be following to get the job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one right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914400" y="42163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.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ow should we organize ourselves to reach our goals and bea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mpetition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8"/>
          <p:cNvSpPr/>
          <p:nvPr/>
        </p:nvSpPr>
        <p:spPr>
          <a:xfrm>
            <a:off x="914400" y="497844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.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ow much detail do we need to provide so everyone knows what to                              do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How do we make sure everyone gets the information?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9"/>
          <p:cNvSpPr/>
          <p:nvPr/>
        </p:nvSpPr>
        <p:spPr>
          <a:xfrm>
            <a:off x="914400" y="556272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7.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at are the few key things that will determine if we make it?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                         we address and keep track of them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ED1D-7235-4F13-A327-C03520FC28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inkage between Strategy, Tactics, and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93" name="Picture 33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46"/>
          <p:cNvSpPr/>
          <p:nvPr/>
        </p:nvSpPr>
        <p:spPr>
          <a:xfrm>
            <a:off x="3200400" y="2209680"/>
            <a:ext cx="5410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tical Activit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Rectangle 48"/>
          <p:cNvSpPr/>
          <p:nvPr/>
        </p:nvSpPr>
        <p:spPr>
          <a:xfrm>
            <a:off x="804960" y="2209680"/>
            <a:ext cx="19047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6" name="Group 59"/>
          <p:cNvGrpSpPr/>
          <p:nvPr/>
        </p:nvGrpSpPr>
        <p:grpSpPr>
          <a:xfrm>
            <a:off x="2709720" y="3295800"/>
            <a:ext cx="2014560" cy="914400"/>
            <a:chOff x="2709720" y="3295800"/>
            <a:chExt cx="2014560" cy="914400"/>
          </a:xfrm>
        </p:grpSpPr>
        <p:sp>
          <p:nvSpPr>
            <p:cNvPr id="597" name="Rectangle 49"/>
            <p:cNvSpPr/>
            <p:nvPr/>
          </p:nvSpPr>
          <p:spPr>
            <a:xfrm>
              <a:off x="3276720" y="3295800"/>
              <a:ext cx="144756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52"/>
            <p:cNvSpPr/>
            <p:nvPr/>
          </p:nvSpPr>
          <p:spPr>
            <a:xfrm>
              <a:off x="2709720" y="37720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9" name="Group 60"/>
          <p:cNvGrpSpPr/>
          <p:nvPr/>
        </p:nvGrpSpPr>
        <p:grpSpPr>
          <a:xfrm>
            <a:off x="4724280" y="3333600"/>
            <a:ext cx="1981440" cy="914400"/>
            <a:chOff x="4724280" y="3333600"/>
            <a:chExt cx="1981440" cy="914400"/>
          </a:xfrm>
        </p:grpSpPr>
        <p:sp>
          <p:nvSpPr>
            <p:cNvPr id="600" name="Rectangle 50"/>
            <p:cNvSpPr/>
            <p:nvPr/>
          </p:nvSpPr>
          <p:spPr>
            <a:xfrm>
              <a:off x="5257800" y="3333600"/>
              <a:ext cx="14479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rategi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Tactic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53"/>
            <p:cNvSpPr/>
            <p:nvPr/>
          </p:nvSpPr>
          <p:spPr>
            <a:xfrm>
              <a:off x="4724280" y="37339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2" name="Group 61"/>
          <p:cNvGrpSpPr/>
          <p:nvPr/>
        </p:nvGrpSpPr>
        <p:grpSpPr>
          <a:xfrm>
            <a:off x="6705720" y="3333600"/>
            <a:ext cx="1990440" cy="914400"/>
            <a:chOff x="6705720" y="3333600"/>
            <a:chExt cx="1990440" cy="914400"/>
          </a:xfrm>
        </p:grpSpPr>
        <p:sp>
          <p:nvSpPr>
            <p:cNvPr id="603" name="Rectangle 51"/>
            <p:cNvSpPr/>
            <p:nvPr/>
          </p:nvSpPr>
          <p:spPr>
            <a:xfrm>
              <a:off x="7248600" y="3333600"/>
              <a:ext cx="144756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bjective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54"/>
            <p:cNvSpPr/>
            <p:nvPr/>
          </p:nvSpPr>
          <p:spPr>
            <a:xfrm>
              <a:off x="6705720" y="38098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5" name="Group 62"/>
          <p:cNvGrpSpPr/>
          <p:nvPr/>
        </p:nvGrpSpPr>
        <p:grpSpPr>
          <a:xfrm>
            <a:off x="838080" y="4267080"/>
            <a:ext cx="7772400" cy="1828800"/>
            <a:chOff x="838080" y="4267080"/>
            <a:chExt cx="7772400" cy="1828800"/>
          </a:xfrm>
        </p:grpSpPr>
        <p:sp>
          <p:nvSpPr>
            <p:cNvPr id="606" name="Rectangle 47"/>
            <p:cNvSpPr/>
            <p:nvPr/>
          </p:nvSpPr>
          <p:spPr>
            <a:xfrm>
              <a:off x="838080" y="5410080"/>
              <a:ext cx="77724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mplementation, Evaluation, and Feedback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55"/>
            <p:cNvSpPr/>
            <p:nvPr/>
          </p:nvSpPr>
          <p:spPr>
            <a:xfrm>
              <a:off x="1828800" y="4724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56"/>
            <p:cNvSpPr/>
            <p:nvPr/>
          </p:nvSpPr>
          <p:spPr>
            <a:xfrm>
              <a:off x="3943440" y="430524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57"/>
            <p:cNvSpPr/>
            <p:nvPr/>
          </p:nvSpPr>
          <p:spPr>
            <a:xfrm>
              <a:off x="5943600" y="426708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58"/>
            <p:cNvSpPr/>
            <p:nvPr/>
          </p:nvSpPr>
          <p:spPr>
            <a:xfrm>
              <a:off x="7924680" y="426708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1FCF820C-4E4B-4AEA-AD85-C70559B490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actors Influencing Environmental Stabi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066680" y="1762200"/>
          <a:ext cx="7239240" cy="4795920"/>
        </p:xfrm>
        <a:graphic>
          <a:graphicData uri="http://schemas.openxmlformats.org/drawingml/2006/table">
            <a:tbl>
              <a:tblPr/>
              <a:tblGrid>
                <a:gridCol w="831960"/>
                <a:gridCol w="1301760"/>
                <a:gridCol w="2292480"/>
                <a:gridCol w="2813040"/>
              </a:tblGrid>
              <a:tr h="520560">
                <a:tc gridSpan="4">
                  <a:txBody>
                    <a:bodyPr lIns="54864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lexit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4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652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5" name="Text Box 142"/>
          <p:cNvSpPr/>
          <p:nvPr/>
        </p:nvSpPr>
        <p:spPr>
          <a:xfrm>
            <a:off x="3124080" y="48769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Uncertain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143"/>
          <p:cNvSpPr/>
          <p:nvPr/>
        </p:nvSpPr>
        <p:spPr>
          <a:xfrm>
            <a:off x="5638680" y="4876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 Uncertain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144"/>
          <p:cNvSpPr/>
          <p:nvPr/>
        </p:nvSpPr>
        <p:spPr>
          <a:xfrm>
            <a:off x="5638680" y="3200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Uncertain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145"/>
          <p:cNvSpPr/>
          <p:nvPr/>
        </p:nvSpPr>
        <p:spPr>
          <a:xfrm>
            <a:off x="3200400" y="32004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 Uncertain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80FA4627-C6CF-4791-B6F6-1F12658959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ission, Strategy, Technology, Structure Relationshi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22" name="Object 34"/>
          <p:cNvGraphicFramePr/>
          <p:nvPr/>
        </p:nvGraphicFramePr>
        <p:xfrm>
          <a:off x="762120" y="1981080"/>
          <a:ext cx="72579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3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257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57B9CAD2-695E-4A30-A4A8-1E20D71406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rategy Development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f Different Leve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3657600" y="1905120"/>
            <a:ext cx="2286000" cy="30456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ternal Environm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AutoShape 37"/>
          <p:cNvSpPr/>
          <p:nvPr/>
        </p:nvSpPr>
        <p:spPr>
          <a:xfrm>
            <a:off x="3200400" y="3048120"/>
            <a:ext cx="2209680" cy="66204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AutoShape 38"/>
          <p:cNvSpPr/>
          <p:nvPr/>
        </p:nvSpPr>
        <p:spPr>
          <a:xfrm>
            <a:off x="2743200" y="4724280"/>
            <a:ext cx="3962520" cy="11430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MAN RESOURCE STRATEGY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RD Strategy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40"/>
          <p:cNvSpPr/>
          <p:nvPr/>
        </p:nvSpPr>
        <p:spPr>
          <a:xfrm>
            <a:off x="7772400" y="5943600"/>
            <a:ext cx="1143000" cy="4572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 Box 41"/>
          <p:cNvSpPr/>
          <p:nvPr/>
        </p:nvSpPr>
        <p:spPr>
          <a:xfrm>
            <a:off x="228600" y="5791320"/>
            <a:ext cx="1143000" cy="4572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37160" bIns="13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Text Box 42"/>
          <p:cNvSpPr/>
          <p:nvPr/>
        </p:nvSpPr>
        <p:spPr>
          <a:xfrm>
            <a:off x="380880" y="2209680"/>
            <a:ext cx="1011240" cy="5335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37160" bIns="13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o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Text Box 43"/>
          <p:cNvSpPr/>
          <p:nvPr/>
        </p:nvSpPr>
        <p:spPr>
          <a:xfrm>
            <a:off x="5562720" y="3809880"/>
            <a:ext cx="2001600" cy="7621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loyee KSA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bor Relations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Cultur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733920" y="4114800"/>
            <a:ext cx="1753920" cy="28404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e Technology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Line 62"/>
          <p:cNvSpPr/>
          <p:nvPr/>
        </p:nvSpPr>
        <p:spPr>
          <a:xfrm flipV="1">
            <a:off x="47242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Line 66"/>
          <p:cNvSpPr/>
          <p:nvPr/>
        </p:nvSpPr>
        <p:spPr>
          <a:xfrm flipV="1"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72"/>
          <p:cNvSpPr/>
          <p:nvPr/>
        </p:nvSpPr>
        <p:spPr>
          <a:xfrm>
            <a:off x="4038480" y="5943600"/>
            <a:ext cx="19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ation’s internal                       Environment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73"/>
          <p:cNvSpPr/>
          <p:nvPr/>
        </p:nvSpPr>
        <p:spPr>
          <a:xfrm>
            <a:off x="7772400" y="2209680"/>
            <a:ext cx="1143000" cy="5335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al Environmen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Oval 78"/>
          <p:cNvSpPr/>
          <p:nvPr/>
        </p:nvSpPr>
        <p:spPr>
          <a:xfrm>
            <a:off x="1447920" y="2514600"/>
            <a:ext cx="6705360" cy="396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Rectangle 85"/>
          <p:cNvSpPr/>
          <p:nvPr/>
        </p:nvSpPr>
        <p:spPr>
          <a:xfrm>
            <a:off x="3657600" y="5562720"/>
            <a:ext cx="2057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87"/>
          <p:cNvSpPr/>
          <p:nvPr/>
        </p:nvSpPr>
        <p:spPr>
          <a:xfrm>
            <a:off x="3276720" y="4800600"/>
            <a:ext cx="2819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Line 90"/>
          <p:cNvSpPr/>
          <p:nvPr/>
        </p:nvSpPr>
        <p:spPr>
          <a:xfrm>
            <a:off x="3962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Line 91"/>
          <p:cNvSpPr/>
          <p:nvPr/>
        </p:nvSpPr>
        <p:spPr>
          <a:xfrm>
            <a:off x="45720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Line 92"/>
          <p:cNvSpPr/>
          <p:nvPr/>
        </p:nvSpPr>
        <p:spPr>
          <a:xfrm>
            <a:off x="53341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Line 94"/>
          <p:cNvSpPr/>
          <p:nvPr/>
        </p:nvSpPr>
        <p:spPr>
          <a:xfrm flipH="1" flipV="1">
            <a:off x="525744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Line 95"/>
          <p:cNvSpPr/>
          <p:nvPr/>
        </p:nvSpPr>
        <p:spPr>
          <a:xfrm flipH="1">
            <a:off x="5181120" y="44197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Line 97"/>
          <p:cNvSpPr/>
          <p:nvPr/>
        </p:nvSpPr>
        <p:spPr>
          <a:xfrm>
            <a:off x="4267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98"/>
          <p:cNvSpPr/>
          <p:nvPr/>
        </p:nvSpPr>
        <p:spPr>
          <a:xfrm>
            <a:off x="47242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Line 99"/>
          <p:cNvSpPr/>
          <p:nvPr/>
        </p:nvSpPr>
        <p:spPr>
          <a:xfrm flipV="1">
            <a:off x="1219320" y="55623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100"/>
          <p:cNvSpPr/>
          <p:nvPr/>
        </p:nvSpPr>
        <p:spPr>
          <a:xfrm flipH="1" flipV="1">
            <a:off x="7467120" y="57909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101"/>
          <p:cNvSpPr/>
          <p:nvPr/>
        </p:nvSpPr>
        <p:spPr>
          <a:xfrm>
            <a:off x="1371600" y="2819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102"/>
          <p:cNvSpPr/>
          <p:nvPr/>
        </p:nvSpPr>
        <p:spPr>
          <a:xfrm flipH="1">
            <a:off x="7315200" y="2743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65AB1593-0FCB-44D4-B6EC-63D4176F19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Steps in a Generic Planned Change Model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– Part 1 of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1066680" y="22096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a compelling need for chan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1066680" y="2819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, in collaboration with the concerned parties, the goals                          to be achieved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1066680" y="34480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what is causing the need for chan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1066680" y="40831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 Identify and evaluate alternative approaches for addressing the       need for chan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1066680" y="500544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an approach for addressing the need for chan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1066680" y="56530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 the approach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ECAF8019-A0AA-499F-A672-2762E84C0C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Steps in a Generic Planned Change Model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– Part 2 of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1066680" y="25146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the result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1066680" y="3246480"/>
            <a:ext cx="7391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eed back the results to the organizatio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results are favorable, go to step 9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results are unfavorable, go back to step 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1066680" y="48769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lize the change. The changes made become routine and   the normal ways the organization conducts its busines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60238AC5-BBBD-4745-9619-A3DB08CF23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Differences Between OD Practitioners and Trainers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380880" y="2286000"/>
          <a:ext cx="8382240" cy="3886200"/>
        </p:xfrm>
        <a:graphic>
          <a:graphicData uri="http://schemas.openxmlformats.org/drawingml/2006/table">
            <a:tbl>
              <a:tblPr/>
              <a:tblGrid>
                <a:gridCol w="2928960"/>
                <a:gridCol w="2849760"/>
                <a:gridCol w="2603520"/>
              </a:tblGrid>
              <a:tr h="53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ssu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D Practitione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raine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e to problems with organizational politics, structure, etc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ational percep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Text Box 75"/>
          <p:cNvSpPr/>
          <p:nvPr/>
        </p:nvSpPr>
        <p:spPr>
          <a:xfrm>
            <a:off x="4191120" y="3048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ateg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Text Box 76"/>
          <p:cNvSpPr/>
          <p:nvPr/>
        </p:nvSpPr>
        <p:spPr>
          <a:xfrm>
            <a:off x="7086600" y="30290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t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Text Box 79"/>
          <p:cNvSpPr/>
          <p:nvPr/>
        </p:nvSpPr>
        <p:spPr>
          <a:xfrm>
            <a:off x="3809880" y="3809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Text Box 80"/>
          <p:cNvSpPr/>
          <p:nvPr/>
        </p:nvSpPr>
        <p:spPr>
          <a:xfrm>
            <a:off x="6438960" y="37101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ddle to lower level        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81"/>
          <p:cNvSpPr/>
          <p:nvPr/>
        </p:nvSpPr>
        <p:spPr>
          <a:xfrm>
            <a:off x="3505320" y="4724280"/>
            <a:ext cx="26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allenge and confr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82"/>
          <p:cNvSpPr/>
          <p:nvPr/>
        </p:nvSpPr>
        <p:spPr>
          <a:xfrm>
            <a:off x="6553080" y="461016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rk around or within the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83"/>
          <p:cNvSpPr/>
          <p:nvPr/>
        </p:nvSpPr>
        <p:spPr>
          <a:xfrm>
            <a:off x="3809880" y="5562720"/>
            <a:ext cx="22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ly analyt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Text Box 84"/>
          <p:cNvSpPr/>
          <p:nvPr/>
        </p:nvSpPr>
        <p:spPr>
          <a:xfrm>
            <a:off x="6553080" y="5557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ts things d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3"/>
          <p:cNvSpPr/>
          <p:nvPr/>
        </p:nvSpPr>
        <p:spPr>
          <a:xfrm>
            <a:off x="0" y="6324480"/>
            <a:ext cx="556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8381880" y="632448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-</a:t>
            </a:r>
            <a:fld id="{BE75DED6-664D-41DC-83D1-0C2DD5CC0A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Force-field analysis model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83" name="Group 23"/>
          <p:cNvGrpSpPr/>
          <p:nvPr/>
        </p:nvGrpSpPr>
        <p:grpSpPr>
          <a:xfrm>
            <a:off x="457200" y="1981080"/>
            <a:ext cx="6552720" cy="1951200"/>
            <a:chOff x="457200" y="1981080"/>
            <a:chExt cx="6552720" cy="1951200"/>
          </a:xfrm>
        </p:grpSpPr>
        <p:grpSp>
          <p:nvGrpSpPr>
            <p:cNvPr id="684" name="Group 4"/>
            <p:cNvGrpSpPr/>
            <p:nvPr/>
          </p:nvGrpSpPr>
          <p:grpSpPr>
            <a:xfrm>
              <a:off x="2244600" y="2391480"/>
              <a:ext cx="4442040" cy="1127520"/>
              <a:chOff x="2244600" y="2391480"/>
              <a:chExt cx="4442040" cy="1127520"/>
            </a:xfrm>
          </p:grpSpPr>
          <p:sp>
            <p:nvSpPr>
              <p:cNvPr id="685" name="Line 5"/>
              <p:cNvSpPr/>
              <p:nvPr/>
            </p:nvSpPr>
            <p:spPr>
              <a:xfrm>
                <a:off x="2244600" y="2955240"/>
                <a:ext cx="444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Line 6"/>
              <p:cNvSpPr/>
              <p:nvPr/>
            </p:nvSpPr>
            <p:spPr>
              <a:xfrm>
                <a:off x="3108240" y="2391480"/>
                <a:ext cx="0" cy="56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Line 7"/>
              <p:cNvSpPr/>
              <p:nvPr/>
            </p:nvSpPr>
            <p:spPr>
              <a:xfrm>
                <a:off x="3699360" y="2673360"/>
                <a:ext cx="0" cy="28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8" name="Line 8"/>
              <p:cNvSpPr/>
              <p:nvPr/>
            </p:nvSpPr>
            <p:spPr>
              <a:xfrm>
                <a:off x="4218840" y="2391480"/>
                <a:ext cx="0" cy="56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9" name="Line 9"/>
              <p:cNvSpPr/>
              <p:nvPr/>
            </p:nvSpPr>
            <p:spPr>
              <a:xfrm>
                <a:off x="5031000" y="2720520"/>
                <a:ext cx="0" cy="23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0" name="Line 10"/>
              <p:cNvSpPr/>
              <p:nvPr/>
            </p:nvSpPr>
            <p:spPr>
              <a:xfrm>
                <a:off x="5648040" y="2485440"/>
                <a:ext cx="0" cy="46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1" name="Line 11"/>
              <p:cNvSpPr/>
              <p:nvPr/>
            </p:nvSpPr>
            <p:spPr>
              <a:xfrm>
                <a:off x="2589120" y="2955240"/>
                <a:ext cx="0" cy="56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2" name="Line 12"/>
              <p:cNvSpPr/>
              <p:nvPr/>
            </p:nvSpPr>
            <p:spPr>
              <a:xfrm>
                <a:off x="3193200" y="2955240"/>
                <a:ext cx="0" cy="28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3" name="Line 13"/>
              <p:cNvSpPr/>
              <p:nvPr/>
            </p:nvSpPr>
            <p:spPr>
              <a:xfrm>
                <a:off x="3568320" y="2955240"/>
                <a:ext cx="0" cy="46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4" name="Line 14"/>
              <p:cNvSpPr/>
              <p:nvPr/>
            </p:nvSpPr>
            <p:spPr>
              <a:xfrm>
                <a:off x="4393800" y="2955240"/>
                <a:ext cx="0" cy="56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5" name="Line 15"/>
              <p:cNvSpPr/>
              <p:nvPr/>
            </p:nvSpPr>
            <p:spPr>
              <a:xfrm>
                <a:off x="4899960" y="2955240"/>
                <a:ext cx="0" cy="18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6" name="Line 16"/>
              <p:cNvSpPr/>
              <p:nvPr/>
            </p:nvSpPr>
            <p:spPr>
              <a:xfrm>
                <a:off x="5511600" y="2955240"/>
                <a:ext cx="0" cy="46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7" name="Line 17"/>
              <p:cNvSpPr/>
              <p:nvPr/>
            </p:nvSpPr>
            <p:spPr>
              <a:xfrm>
                <a:off x="6193080" y="2955240"/>
                <a:ext cx="0" cy="56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98" name="Rectangle 18"/>
            <p:cNvSpPr/>
            <p:nvPr/>
          </p:nvSpPr>
          <p:spPr>
            <a:xfrm>
              <a:off x="1664280" y="1981080"/>
              <a:ext cx="5345640" cy="190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Text Box 19"/>
            <p:cNvSpPr/>
            <p:nvPr/>
          </p:nvSpPr>
          <p:spPr>
            <a:xfrm>
              <a:off x="3490920" y="1981080"/>
              <a:ext cx="275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iving Forces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Text Box 20"/>
            <p:cNvSpPr/>
            <p:nvPr/>
          </p:nvSpPr>
          <p:spPr>
            <a:xfrm>
              <a:off x="3302280" y="3594960"/>
              <a:ext cx="232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training Forces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Text Box 22"/>
            <p:cNvSpPr/>
            <p:nvPr/>
          </p:nvSpPr>
          <p:spPr>
            <a:xfrm>
              <a:off x="457200" y="2715840"/>
              <a:ext cx="112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rrent Situation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2" name="Text Box 24"/>
          <p:cNvSpPr/>
          <p:nvPr/>
        </p:nvSpPr>
        <p:spPr>
          <a:xfrm>
            <a:off x="1523880" y="403848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Identify the current state of the situation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Text Box 25"/>
          <p:cNvSpPr/>
          <p:nvPr/>
        </p:nvSpPr>
        <p:spPr>
          <a:xfrm>
            <a:off x="1523880" y="43434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Envision the desired stat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Text Box 26"/>
          <p:cNvSpPr/>
          <p:nvPr/>
        </p:nvSpPr>
        <p:spPr>
          <a:xfrm>
            <a:off x="1523880" y="464832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Identify the forces restraining chang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Text Box 27"/>
          <p:cNvSpPr/>
          <p:nvPr/>
        </p:nvSpPr>
        <p:spPr>
          <a:xfrm>
            <a:off x="1523880" y="495288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Identify the forces that support or encourage chang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Text Box 28"/>
          <p:cNvSpPr/>
          <p:nvPr/>
        </p:nvSpPr>
        <p:spPr>
          <a:xfrm>
            <a:off x="1523880" y="5257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. Assess the strength of the forces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Text Box 29"/>
          <p:cNvSpPr/>
          <p:nvPr/>
        </p:nvSpPr>
        <p:spPr>
          <a:xfrm>
            <a:off x="1523880" y="556272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. Develop strategies to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Text Box 30"/>
          <p:cNvSpPr/>
          <p:nvPr/>
        </p:nvSpPr>
        <p:spPr>
          <a:xfrm>
            <a:off x="2362320" y="579132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the forces restraining chan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ext Box 31"/>
          <p:cNvSpPr/>
          <p:nvPr/>
        </p:nvSpPr>
        <p:spPr>
          <a:xfrm>
            <a:off x="2362320" y="601992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 the forces for change (or capitalize on existing drivers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9:28:52Z</dcterms:created>
  <dc:creator>user</dc:creator>
  <dc:description/>
  <dc:language>en-US</dc:language>
  <cp:lastModifiedBy>Mami</cp:lastModifiedBy>
  <dcterms:modified xsi:type="dcterms:W3CDTF">2009-07-17T21:24:21Z</dcterms:modified>
  <cp:revision>127</cp:revision>
  <dc:subject/>
  <dc:title>No Trait and Treatment Interaction</dc:title>
</cp:coreProperties>
</file>